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0D5-6648-43CD-B848-DA588CFD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neogenesis == making new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s little energy because it is fully oxid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 series of steps to synthesize a stable energy storag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 = phosphoglyc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L = phosphoglyceraldehy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D983-EACE-40C4-A94C-19BEDCA12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7BB0-CE6C-4A5D-8072-CDEB018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F784-12B9-499C-8C41-E874E18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2E2D-DC16-422E-B375-592A6C4D3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9C6B-6DF8-4986-BC51-D1C01307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D1AB-83E1-40AE-A6E4-7A11472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E01D-F3B0-49E6-9CA4-3D90253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A0E-EED9-445D-AD1C-3FCB8E2E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C55F-97C2-45FA-BE30-23020779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0801-659D-4A40-99E2-A42567D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DFBD-A3C3-4B68-B757-553D731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36E1-BEB1-464B-A036-C90D48AE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83D-5FAB-4121-96CA-222D943B18E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Dr.%20Block/My%20Documents/Dr%20Blocks%20Stuff/AP%20Bio%20Stuff/Campbell%20Related/Animations/Chap.%2010%20-%20CalvinCycle.swf" TargetMode="External"/><Relationship Id="rId2" Type="http://schemas.openxmlformats.org/officeDocument/2006/relationships/hyperlink" Target="file:///C:/Documents%20and%20Settings/Dr.%20Block/My%20Documents/Dr%20Blocks%20Stuff/AP%20Bio%20Stuff/Campbell%20Related/Animations/Chap.%2010%20-%20CalvinCycle.swf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0" y="3733920"/>
            <a:ext cx="15238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0.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 The Calvin Cycle</a:t>
            </a:r>
            <a:br>
              <a:rPr sz="3600"/>
            </a:b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435320" cy="256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D66-E425-4473-AB40-5457622B8D7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 = Phosphoglycer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2 ATP and 12 NADPH are oxidized by PGA to form PG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L = Glyceride 3-Phosphate (a Very Energy Rich Molecule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C:\Documents and Settings\Dr. Block\My Documents\Dr Blocks Stuff\AP Bio Stuff\Campbell Related\Animations\Chap. 10 - </a:t>
            </a:r>
            <a:r>
              <a:rPr b="1" lang="en-US" sz="30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CalvinCycle.swf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638680" y="3581280"/>
            <a:ext cx="1371600" cy="6858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6960" y="608760"/>
            <a:ext cx="185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110200" y="1539720"/>
            <a:ext cx="380880" cy="838080"/>
            <a:chOff x="5110200" y="1539720"/>
            <a:chExt cx="380880" cy="838080"/>
          </a:xfrm>
        </p:grpSpPr>
        <p:sp>
          <p:nvSpPr>
            <p:cNvPr id="232" name=""/>
            <p:cNvSpPr/>
            <p:nvPr/>
          </p:nvSpPr>
          <p:spPr>
            <a:xfrm>
              <a:off x="5110200" y="1539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10200" y="1996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09760" y="2361600"/>
            <a:ext cx="241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6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9480" y="329256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0920" y="32925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960" y="3656880"/>
            <a:ext cx="126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21480" y="3656880"/>
            <a:ext cx="124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L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00920" y="4511520"/>
            <a:ext cx="380880" cy="1295280"/>
            <a:chOff x="6100920" y="4511520"/>
            <a:chExt cx="380880" cy="1295280"/>
          </a:xfrm>
        </p:grpSpPr>
        <p:sp>
          <p:nvSpPr>
            <p:cNvPr id="240" name=""/>
            <p:cNvSpPr/>
            <p:nvPr/>
          </p:nvSpPr>
          <p:spPr>
            <a:xfrm>
              <a:off x="6100920" y="45115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00920" y="4968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0920" y="5425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460840" y="5774760"/>
            <a:ext cx="176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2320" y="1692360"/>
            <a:ext cx="838080" cy="457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13640" y="143172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96720" y="184428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7920" y="374976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862680" y="4282560"/>
            <a:ext cx="2224440" cy="902880"/>
            <a:chOff x="6862680" y="4282560"/>
            <a:chExt cx="2224440" cy="902880"/>
          </a:xfrm>
        </p:grpSpPr>
        <p:sp>
          <p:nvSpPr>
            <p:cNvPr id="249" name=""/>
            <p:cNvSpPr/>
            <p:nvPr/>
          </p:nvSpPr>
          <p:spPr>
            <a:xfrm>
              <a:off x="6862680" y="4543200"/>
              <a:ext cx="838080" cy="45720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81680" y="4282560"/>
              <a:ext cx="1285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 NAD</a:t>
              </a:r>
              <a:r>
                <a:rPr b="1" lang="en-US" sz="2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73400" y="4695480"/>
              <a:ext cx="141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 NAD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862680" y="5121000"/>
            <a:ext cx="1967760" cy="902160"/>
            <a:chOff x="6862680" y="5121000"/>
            <a:chExt cx="1967760" cy="902160"/>
          </a:xfrm>
        </p:grpSpPr>
        <p:sp>
          <p:nvSpPr>
            <p:cNvPr id="253" name=""/>
            <p:cNvSpPr/>
            <p:nvPr/>
          </p:nvSpPr>
          <p:spPr>
            <a:xfrm>
              <a:off x="6862680" y="5381640"/>
              <a:ext cx="838080" cy="45684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6840"/>
                <a:gd name="textAreaBottom" fmla="*/ 331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74480" y="51210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AD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73760" y="55332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9400" y="684720"/>
            <a:ext cx="2529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member </a:t>
            </a:r>
            <a:br>
              <a:rPr sz="3400"/>
            </a:b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PGAL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680" y="1751760"/>
            <a:ext cx="2265480" cy="611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371600"/>
            <a:ext cx="761760" cy="5105520"/>
          </a:xfrm>
          <a:prstGeom prst="upArrow">
            <a:avLst>
              <a:gd name="adj1" fmla="val 50000"/>
              <a:gd name="adj2" fmla="val 167557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DB5-D6A8-4049-B425-DB9A865110E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 product of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rich sug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carbon compou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C3 photosynthesi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GA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DB9-CC20-4579-8EFF-910F54497B7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87280" y="455760"/>
            <a:ext cx="6781680" cy="3449520"/>
            <a:chOff x="1187280" y="455760"/>
            <a:chExt cx="6781680" cy="34495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0" t="0" r="0" b="47792"/>
            <a:stretch/>
          </p:blipFill>
          <p:spPr>
            <a:xfrm>
              <a:off x="1187280" y="455760"/>
              <a:ext cx="678168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09440" y="199944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7320" y="245664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187280" y="455760"/>
            <a:ext cx="6705360" cy="6311880"/>
            <a:chOff x="1187280" y="455760"/>
            <a:chExt cx="6705360" cy="631188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1187280" y="455760"/>
              <a:ext cx="670536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371280" y="189000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04600" y="5394960"/>
              <a:ext cx="955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99160" y="234720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87280" y="457200"/>
            <a:ext cx="6721200" cy="6327720"/>
            <a:chOff x="1187280" y="457200"/>
            <a:chExt cx="6721200" cy="63277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rcRect l="0" t="0" r="0" b="3357"/>
            <a:stretch/>
          </p:blipFill>
          <p:spPr>
            <a:xfrm>
              <a:off x="1187280" y="457200"/>
              <a:ext cx="6721200" cy="63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379200" y="198036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12520" y="5485320"/>
              <a:ext cx="955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7080" y="243756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67B-C2C5-45DE-A864-1F35562F0C1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52680" y="4273560"/>
            <a:ext cx="2590920" cy="2584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ubisco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 which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ix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rom atmosphe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bulose bisphosphate carboxylas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most important enzyme in the world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t makes life out of ai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itely the most abundant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83C-2235-4180-9782-1BD3B4D2969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ccounting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accounting is complic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turns 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 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3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tur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ADPH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= left over from light reactions for cell to use elsewhe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3CB-D126-4A77-BCFD-5B5F5972482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38080" y="3047400"/>
            <a:ext cx="7772400" cy="838800"/>
            <a:chOff x="838080" y="3047400"/>
            <a:chExt cx="7772400" cy="838800"/>
          </a:xfrm>
        </p:grpSpPr>
        <p:sp>
          <p:nvSpPr>
            <p:cNvPr id="287" name=""/>
            <p:cNvSpPr/>
            <p:nvPr/>
          </p:nvSpPr>
          <p:spPr>
            <a:xfrm>
              <a:off x="838080" y="30481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14040" y="3047400"/>
              <a:ext cx="7361640" cy="838800"/>
              <a:chOff x="914040" y="3047400"/>
              <a:chExt cx="7361640" cy="838800"/>
            </a:xfrm>
          </p:grpSpPr>
          <p:sp>
            <p:nvSpPr>
              <p:cNvPr id="289" name=""/>
              <p:cNvSpPr/>
              <p:nvPr/>
            </p:nvSpPr>
            <p:spPr>
              <a:xfrm>
                <a:off x="2199960" y="30474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040" y="30794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838080" y="3809880"/>
            <a:ext cx="7772400" cy="914400"/>
            <a:chOff x="838080" y="3809880"/>
            <a:chExt cx="7772400" cy="914400"/>
          </a:xfrm>
        </p:grpSpPr>
        <p:sp>
          <p:nvSpPr>
            <p:cNvPr id="292" name=""/>
            <p:cNvSpPr/>
            <p:nvPr/>
          </p:nvSpPr>
          <p:spPr>
            <a:xfrm>
              <a:off x="838080" y="38098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156320" y="3993840"/>
              <a:ext cx="6743160" cy="727560"/>
              <a:chOff x="1156320" y="3993840"/>
              <a:chExt cx="6743160" cy="727560"/>
            </a:xfrm>
          </p:grpSpPr>
          <p:sp>
            <p:nvSpPr>
              <p:cNvPr id="294" name=""/>
              <p:cNvSpPr/>
              <p:nvPr/>
            </p:nvSpPr>
            <p:spPr>
              <a:xfrm>
                <a:off x="1156320" y="40028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48440" y="40028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39600" y="40201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70120" y="40028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57600" y="39938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1840" y="39996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6108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0608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5672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990720" y="1523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3DB-5FAB-4A81-BAB8-A99E42F64F8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343400" y="3733920"/>
            <a:ext cx="4533840" cy="29779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066-9F05-42CC-8474-5F173EAA5BC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 that is 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312" name="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E8A-9460-4736-BE8D-BDD4E1ADF3C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Whoops! Wrong Calvin…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7372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5EC-CC97-4CF9-B450-5B2DFBE6714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160 billion tons of carbohydrat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C0C-1712-4D73-9C58-B4F1CA62402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poetic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pla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s built out of thin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anim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was built from plant materi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4327560"/>
            <a:ext cx="5943600" cy="1921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n all the cats, dogs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ce, people &amp; elephants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e really strands of air woven together by sunlight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74976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09480" y="3855960"/>
            <a:ext cx="1524240" cy="1067040"/>
            <a:chOff x="609480" y="3855960"/>
            <a:chExt cx="1524240" cy="1067040"/>
          </a:xfrm>
        </p:grpSpPr>
        <p:sp>
          <p:nvSpPr>
            <p:cNvPr id="333" name=""/>
            <p:cNvSpPr/>
            <p:nvPr/>
          </p:nvSpPr>
          <p:spPr>
            <a:xfrm flipH="1">
              <a:off x="609480" y="3855960"/>
              <a:ext cx="152424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5360" y="4055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ir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3847-5A94-4010-9C5F-324044FB33D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91D-7191-4426-8ED1-5EBC45D574B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what it means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produce all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organic molecul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necessary for grow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, 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, nucleic acid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store chemical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stable for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be moved around pla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ved for a rainy d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D24-C79D-46AA-9832-28CF8A1308F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utotroph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3276000"/>
            <a:ext cx="7772400" cy="838800"/>
            <a:chOff x="685800" y="3276000"/>
            <a:chExt cx="7772400" cy="838800"/>
          </a:xfrm>
        </p:grpSpPr>
        <p:sp>
          <p:nvSpPr>
            <p:cNvPr id="117" name=""/>
            <p:cNvSpPr/>
            <p:nvPr/>
          </p:nvSpPr>
          <p:spPr>
            <a:xfrm>
              <a:off x="685800" y="32767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61760" y="3276000"/>
              <a:ext cx="7361640" cy="838800"/>
              <a:chOff x="761760" y="3276000"/>
              <a:chExt cx="7361640" cy="838800"/>
            </a:xfrm>
          </p:grpSpPr>
          <p:sp>
            <p:nvSpPr>
              <p:cNvPr id="119" name=""/>
              <p:cNvSpPr/>
              <p:nvPr/>
            </p:nvSpPr>
            <p:spPr>
              <a:xfrm>
                <a:off x="2047680" y="32760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1760" y="33080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685800" y="4038480"/>
            <a:ext cx="7772400" cy="914400"/>
            <a:chOff x="685800" y="4038480"/>
            <a:chExt cx="7772400" cy="914400"/>
          </a:xfrm>
        </p:grpSpPr>
        <p:sp>
          <p:nvSpPr>
            <p:cNvPr id="122" name=""/>
            <p:cNvSpPr/>
            <p:nvPr/>
          </p:nvSpPr>
          <p:spPr>
            <a:xfrm>
              <a:off x="685800" y="40384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004040" y="4222440"/>
              <a:ext cx="6743160" cy="727560"/>
              <a:chOff x="1004040" y="4222440"/>
              <a:chExt cx="6743160" cy="727560"/>
            </a:xfrm>
          </p:grpSpPr>
          <p:sp>
            <p:nvSpPr>
              <p:cNvPr id="124" name=""/>
              <p:cNvSpPr/>
              <p:nvPr/>
            </p:nvSpPr>
            <p:spPr>
              <a:xfrm>
                <a:off x="100404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9616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87320" y="42487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7840" y="42314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42224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59560" y="42282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08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53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444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BD1-7307-420C-B283-75F07A1FCBD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19000" y="2589840"/>
            <a:ext cx="206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1440" y="3275640"/>
            <a:ext cx="38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ducing power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97280" y="4557240"/>
            <a:ext cx="482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build stuff </a:t>
            </a:r>
            <a:r>
              <a:rPr b="1" i="1" lang="en-US" sz="4600" spc="-1" strike="noStrike">
                <a:solidFill>
                  <a:srgbClr val="0c8f0f"/>
                </a:solidFill>
                <a:latin typeface="Arial"/>
              </a:rPr>
              <a:t>!!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ECCE-4165-409B-8176-295E9407FF6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is that helpfu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nt to make C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? From what?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at raw materials are availabl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1120" y="3677400"/>
            <a:ext cx="1061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38280" y="5612400"/>
            <a:ext cx="18770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443376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55616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263100"/>
                <a:lnTo>
                  <a:pt x="16118" y="21341"/>
                </a:lnTo>
                <a:lnTo>
                  <a:pt x="21600" y="17280"/>
                </a:lnTo>
                <a:lnTo>
                  <a:pt x="16118" y="12701"/>
                </a:lnTo>
                <a:lnTo>
                  <a:pt x="16118" y="15565"/>
                </a:lnTo>
                <a:arcTo wR="21600" hR="7912" stAng="7536900" swAng="3027713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5840" y="4371480"/>
            <a:ext cx="13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0572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556160"/>
            <a:ext cx="2133360" cy="9144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6360" y="4738320"/>
            <a:ext cx="2553480" cy="489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 fix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E369-D341-47BB-B318-31FB65734A3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13C-B8EF-4D2F-88DE-D8F468398CD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4B2-FE3D-48F0-B04E-A43C340D4B4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000" y="2853360"/>
            <a:ext cx="2765520" cy="1989360"/>
            <a:chOff x="54000" y="2853360"/>
            <a:chExt cx="2765520" cy="1989360"/>
          </a:xfrm>
        </p:grpSpPr>
        <p:sp>
          <p:nvSpPr>
            <p:cNvPr id="160" name=""/>
            <p:cNvSpPr/>
            <p:nvPr/>
          </p:nvSpPr>
          <p:spPr>
            <a:xfrm>
              <a:off x="1828800" y="396252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00" y="3047760"/>
              <a:ext cx="1314720" cy="8974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o make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glucos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 rot="19608600">
              <a:off x="1294920" y="2933640"/>
              <a:ext cx="838440" cy="1828800"/>
            </a:xfrm>
            <a:custGeom>
              <a:avLst/>
              <a:gdLst>
                <a:gd name="textAreaLeft" fmla="*/ -360 w 838440"/>
                <a:gd name="textAreaRight" fmla="*/ 838440 w 838440"/>
                <a:gd name="textAreaTop" fmla="*/ 360 h 1828800"/>
                <a:gd name="textAreaBottom" fmla="*/ 18295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0" y="11165"/>
                  </a:moveTo>
                  <a:arcTo wR="-8148" hR="-8148" stAng="10645953" swAng="-6190919"/>
                  <a:lnTo>
                    <a:pt x="7869" y="405"/>
                  </a:lnTo>
                  <a:arcTo wR="10800" hR="10800" stAng="-6344965" swAng="6190919"/>
                  <a:lnTo>
                    <a:pt x="24286" y="10195"/>
                  </a:lnTo>
                  <a:lnTo>
                    <a:pt x="20445" y="14398"/>
                  </a:lnTo>
                  <a:lnTo>
                    <a:pt x="16243" y="10556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164" name="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192720" y="2361240"/>
            <a:ext cx="2432880" cy="764280"/>
            <a:chOff x="6192720" y="2361240"/>
            <a:chExt cx="2432880" cy="764280"/>
          </a:xfrm>
        </p:grpSpPr>
        <p:grpSp>
          <p:nvGrpSpPr>
            <p:cNvPr id="167" name=""/>
            <p:cNvGrpSpPr/>
            <p:nvPr/>
          </p:nvGrpSpPr>
          <p:grpSpPr>
            <a:xfrm>
              <a:off x="6192720" y="2513880"/>
              <a:ext cx="668520" cy="610200"/>
              <a:chOff x="6192720" y="2513880"/>
              <a:chExt cx="668520" cy="610200"/>
            </a:xfrm>
          </p:grpSpPr>
          <p:sp>
            <p:nvSpPr>
              <p:cNvPr id="168" name=""/>
              <p:cNvSpPr/>
              <p:nvPr/>
            </p:nvSpPr>
            <p:spPr>
              <a:xfrm>
                <a:off x="6197400" y="2514600"/>
                <a:ext cx="609120" cy="60948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92720" y="25138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783840" y="2361240"/>
              <a:ext cx="184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stab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mediat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172" name="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90120" y="684720"/>
            <a:ext cx="7511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(don’t count the carbons!)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20400" y="1904040"/>
            <a:ext cx="1612080" cy="762840"/>
            <a:chOff x="3020400" y="1904040"/>
            <a:chExt cx="1612080" cy="762840"/>
          </a:xfrm>
        </p:grpSpPr>
        <p:sp>
          <p:nvSpPr>
            <p:cNvPr id="180" name=""/>
            <p:cNvSpPr/>
            <p:nvPr/>
          </p:nvSpPr>
          <p:spPr>
            <a:xfrm>
              <a:off x="399240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020400" y="1904040"/>
              <a:ext cx="1612080" cy="703440"/>
              <a:chOff x="3020400" y="1904040"/>
              <a:chExt cx="1612080" cy="70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63960" y="20566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5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20400" y="1904040"/>
                <a:ext cx="939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RuBP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6325200" y="3961440"/>
            <a:ext cx="1928880" cy="762840"/>
            <a:chOff x="6325200" y="3961440"/>
            <a:chExt cx="1928880" cy="762840"/>
          </a:xfrm>
        </p:grpSpPr>
        <p:grpSp>
          <p:nvGrpSpPr>
            <p:cNvPr id="185" name=""/>
            <p:cNvGrpSpPr/>
            <p:nvPr/>
          </p:nvGrpSpPr>
          <p:grpSpPr>
            <a:xfrm>
              <a:off x="6859440" y="4114080"/>
              <a:ext cx="668520" cy="610200"/>
              <a:chOff x="6859440" y="4114080"/>
              <a:chExt cx="668520" cy="610200"/>
            </a:xfrm>
          </p:grpSpPr>
          <p:sp>
            <p:nvSpPr>
              <p:cNvPr id="186" name=""/>
              <p:cNvSpPr/>
              <p:nvPr/>
            </p:nvSpPr>
            <p:spPr>
              <a:xfrm>
                <a:off x="6864120" y="4114800"/>
                <a:ext cx="60984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59440" y="4114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325200" y="41907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0000" y="396144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629400" y="5485320"/>
            <a:ext cx="1826640" cy="886320"/>
            <a:chOff x="6629400" y="5485320"/>
            <a:chExt cx="1826640" cy="886320"/>
          </a:xfrm>
        </p:grpSpPr>
        <p:sp>
          <p:nvSpPr>
            <p:cNvPr id="191" name=""/>
            <p:cNvSpPr/>
            <p:nvPr/>
          </p:nvSpPr>
          <p:spPr>
            <a:xfrm>
              <a:off x="6629400" y="571500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53800" y="594252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3800" y="548532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20440" y="5790960"/>
            <a:ext cx="1126440" cy="914760"/>
            <a:chOff x="4420440" y="5790960"/>
            <a:chExt cx="1126440" cy="914760"/>
          </a:xfrm>
        </p:grpSpPr>
        <p:grpSp>
          <p:nvGrpSpPr>
            <p:cNvPr id="195" name=""/>
            <p:cNvGrpSpPr/>
            <p:nvPr/>
          </p:nvGrpSpPr>
          <p:grpSpPr>
            <a:xfrm>
              <a:off x="4878360" y="6095160"/>
              <a:ext cx="668520" cy="610560"/>
              <a:chOff x="4878360" y="6095160"/>
              <a:chExt cx="668520" cy="61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4883040" y="6095880"/>
                <a:ext cx="609120" cy="60984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8360" y="60951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20440" y="57909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31320" y="4037760"/>
            <a:ext cx="1976400" cy="838800"/>
            <a:chOff x="1831320" y="4037760"/>
            <a:chExt cx="1976400" cy="838800"/>
          </a:xfrm>
        </p:grpSpPr>
        <p:grpSp>
          <p:nvGrpSpPr>
            <p:cNvPr id="200" name=""/>
            <p:cNvGrpSpPr/>
            <p:nvPr/>
          </p:nvGrpSpPr>
          <p:grpSpPr>
            <a:xfrm>
              <a:off x="2668320" y="4267080"/>
              <a:ext cx="668520" cy="609480"/>
              <a:chOff x="2668320" y="4267080"/>
              <a:chExt cx="668520" cy="60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697120" y="426708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68320" y="4280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258360" y="43113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31320" y="403776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98880" y="5515560"/>
            <a:ext cx="2206080" cy="856080"/>
            <a:chOff x="1298880" y="5515560"/>
            <a:chExt cx="2206080" cy="856080"/>
          </a:xfrm>
        </p:grpSpPr>
        <p:sp>
          <p:nvSpPr>
            <p:cNvPr id="206" name=""/>
            <p:cNvSpPr/>
            <p:nvPr/>
          </p:nvSpPr>
          <p:spPr>
            <a:xfrm flipH="1">
              <a:off x="2666160" y="5715000"/>
              <a:ext cx="838440" cy="53352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99040" y="594252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8880" y="551556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33880" y="2589840"/>
            <a:ext cx="1766520" cy="886320"/>
            <a:chOff x="1433880" y="2589840"/>
            <a:chExt cx="1766520" cy="886320"/>
          </a:xfrm>
        </p:grpSpPr>
        <p:sp>
          <p:nvSpPr>
            <p:cNvPr id="210" name=""/>
            <p:cNvSpPr/>
            <p:nvPr/>
          </p:nvSpPr>
          <p:spPr>
            <a:xfrm flipH="1">
              <a:off x="2362320" y="2819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3880" y="304704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62680" y="258984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10520" y="1532160"/>
            <a:ext cx="253980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160" y="4961160"/>
            <a:ext cx="185724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0680" y="1837080"/>
            <a:ext cx="227628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3. Regene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240" y="1294560"/>
            <a:ext cx="316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bulose bisphosph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9920" y="2818440"/>
            <a:ext cx="1997280" cy="10994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bulo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sphospha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boxylas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8240" y="3962520"/>
            <a:ext cx="30492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6920" y="3899520"/>
            <a:ext cx="360" cy="43092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962520"/>
            <a:ext cx="30456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8120" y="4275360"/>
            <a:ext cx="104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99A-EA31-487A-AF3E-0092ADE6778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32:31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5-12-09T20:58:19Z</cp:lastPrinted>
  <dcterms:modified xsi:type="dcterms:W3CDTF">2006-11-16T12:41:04Z</dcterms:modified>
  <cp:revision>14</cp:revision>
  <dc:subject>AP &amp; Regents Biology</dc:subject>
  <dc:title>Whoops! Wrong Calvin…</dc:title>
</cp:coreProperties>
</file>